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3C3F-9694-48BD-81A4-28BA830B9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111A-A7FB-40ED-B279-3A34269D6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25CD49-B59F-42EF-ADB5-9E9C522AE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BF5799-81B6-43CA-A692-7FBBF3E97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69EDCE-5350-4F16-B56E-E345280D5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3EF3CB-1BD2-49E7-9112-0D9F329B8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2FBF19-5576-45F9-89FF-EEC534B5A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4B13D9-55FA-48EB-B2F5-32D76FA5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31C25C-4F3A-4ED4-A386-E67BDCE67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331CE0-5CE5-4C9F-8D33-38F2309C3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C712C4-2C94-4912-916D-94E260A2D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8845B9-209D-4381-8DF3-AE3B9AF00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0492-7AED-461F-A678-67057CAFA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FC830C-0D2E-4BE2-ACC1-91B83A7E1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F91CD2-240A-4FCB-8D64-3FF542FEF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D87D99-DABB-416D-84B1-7FFF0B437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1E9C4F-DD71-4643-9B9C-D1A5F7316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BF1F6D-211F-4F78-997F-95678AA19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75D64A-A81B-438F-8E20-2CB4B438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ED1E87-D925-410E-A017-369D01A6B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28EA38-4AA5-42A7-B3F7-42952215B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2612AB-7945-40BD-8FD5-5F30BD136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2EC82B-A634-4071-8CE6-2894833A8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63DF-3923-42D8-A51F-DC122E9D0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B3B45F-E09F-4529-8E3D-34168871A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AC7402-CF48-4B0E-ADF2-3D49E0BA1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ADBC60-EC5F-44E7-9F09-05CAF51F9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8440FF-68A1-4915-A117-0E9C5ED32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36FBCA-02B3-433A-970D-5ECEF3A25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6DC96C-1C86-4520-87B0-AC39965BD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3B0650-6870-4D26-A5F4-EC172EB75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4AD28C-5A9B-49D2-BAEA-327BD03D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B3EC0D-4F8B-482D-8D1E-9561818E7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0FD41B-5DFC-4C3C-8260-9326393DF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51E26-88BE-443C-BCBF-F11FD49C2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9CC1C5-36D1-4318-82B2-57718A2B7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7FD5E4-3222-4419-A003-19A480048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B93F4E-393D-415D-A885-7A05CA9A5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396D07-4B49-4B0A-983A-2512C1163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10E196-611E-4DD3-9A98-CE43DFCB6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B75C6F-4B19-4035-9020-5F03F6D4A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C2D55D-C7FE-448A-B338-5F090A6C2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C77E43-416B-487E-9FEA-5F221B7FE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4BFC76-D53E-41E0-8FA1-E7E285748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32AB10-15E9-4B90-B501-2212FAB8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47AEA-F331-423B-A59A-40DB6B757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1BBBD5-5571-472F-8F4E-7D6D816E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78A884-9B79-4F36-AFCD-12EAB3FD9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7D0DA1-C5EF-43C8-93E3-BBBBA3700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6B8561-69F4-41F3-93B7-B5E812FBF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38974F-3EBD-48F0-B5AE-D1AA408C9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D5AC4F-3C73-4E8D-A9D0-79184A10A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75ECB3-1EF6-42D6-9A62-F6CEC2DC1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E840F5-CFE8-4ADA-A476-52DD47C8E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2EB35F-4DCD-4C24-9F21-9E43A0CF0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78C775-B76E-4BFA-8A96-E21730526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768D9-98AE-466C-9307-7B6D739CB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5D95E3-DCCA-4869-9EA7-31AA00798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5D50B3-1FB0-4FBE-A814-3F2CBC716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BCE941-ED0C-4A18-AF8E-2367AC43C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6BCACF-6EBE-4396-ACFF-939A0C63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82D426-7733-4788-A1C5-710224DBC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9DEBB9-2C80-4AB3-B9E4-E2117AB5C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75EC4C-8797-4235-9837-291C316CD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C3411C-0110-46A9-94D4-AD9359239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CCF9C0-FA0E-46C4-8C80-660BB45AC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7F44B0-585A-47FD-8097-7961980D5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2280F-A1C7-4DE5-BC3C-9B22594DA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5B96A0-4E92-4049-A674-3EFBF98A9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E5A6D4-E0A5-42F2-BF4A-039AA7513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FC7F50-1E2F-4A70-8AC1-C9F63010A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0F7E70-09F3-4CEB-AC2C-AEB514B9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EC5D2A-51A8-4989-8E47-8C834EAD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C67F53-D590-4E35-AAD7-323F40872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518ACB-9C7C-4110-822B-9EBDC644E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CD0A5E-374A-4D4A-A35E-7E77D0900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4D8614-EC1B-48CA-9D9B-944B1AF23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EFEA6C-661B-41F1-A4B2-4FF7EB774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B038F-C851-4A41-98FF-9880D11FC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9D3192-AF53-4CF8-ACF4-63DE11E0D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E37960-0D2B-4075-9286-79188149B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F7520B-9BFB-4282-9AA3-B85336CE3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AD5CAB-4AC7-4D47-974E-282CCB61F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1F9C55-EC55-45FB-AB61-2A9ED4F39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CC78C6-4FEF-4814-9618-014F10DB3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EFCC68-BAEA-438C-89C4-E4DC006C9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642959-60CD-478F-9966-A224CCC62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4BAC94-CE44-4941-9181-5A1454A38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84ADCF-3C67-4FAF-B22E-BCB88455B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89CCC-DF1B-42D9-BCB7-533F5313E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E84D98-A2E8-4CD2-93FC-FEA9D4B58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B0E7F9-D5EB-4135-98B7-82E17439E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4AEC90-AB35-49C7-B995-C4BBD7905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F622B0-57A1-4E62-9E6A-D9E008772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AE86BB-8302-45F6-ABC6-5F31DD028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21B99B-670C-492F-B0EF-6F3EA805B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AD05EA-95A5-46E0-A6C3-B03BD295C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5D2F6D-0DD5-4B6B-B4B0-6A09FC0F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E46709-B4CC-4CAD-9346-1FF0B48BC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7DDE93-65A3-4ABC-8301-C710E23D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7F1AB-4987-4C06-9E5D-9D0C85897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C8C089-D38F-4820-A863-EFB15DE48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FED3D1-24E9-4C0C-8D18-79308BFE4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452BA0-C804-4205-8E1A-FDB0961A5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0D43A5-38AB-4614-802C-C68798607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136BC1-5ACD-4A53-AEB2-1C24B47DF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676F26-08E5-4209-BB51-662AFF75E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1733C8-12A5-455D-8EB2-33400BF5E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8ACB3F-092F-42A1-A5A7-4A0C2888A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A3F0B1-483D-44C5-BC4D-B37547D17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84B5D5-57FB-4C50-987C-9B06D01D9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0E3F-0664-4F3D-A702-7D49736B1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D4A68-FE6C-4784-B677-5331299A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343955-9315-44A5-88F2-9C47555E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454A6D-BC35-4172-9417-DAE33EE7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1FA486-5F30-4F66-AE9F-A29E15B7D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86D8F8-8FB7-45D3-9C0D-36F27FFAF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9DC7E1-069B-46E2-AF22-8FAB1D73F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B88153-0A06-494B-A76C-717617AAC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29CC7F-2B43-4770-B8D3-9261C52E5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D45829-A6FE-4C89-A1CD-E49EE79BE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791E22-76F7-492F-92BD-CB1267354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5F75A0-15AB-49B2-8952-8490EEE31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8BAD2-85E8-48BC-9BB5-EEB927AB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453171-9651-4C1F-82D8-0D5425FCA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F65F60-43D6-4F95-B822-FF7F6F45A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1DC0E5-D5A3-402B-AF7B-FCE2DFDF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54FD8E-40AD-4579-BAC8-58CD4FC93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03E21E-AF30-4111-8FEF-EBE5AF36A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723296-2C3C-47B5-A32E-DBECF941A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E74786-0424-4620-B6F5-574FE5A39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4221E0-080E-4EBD-9C89-72FB1AE3F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3BE380-29EE-4626-ABF0-8C7030ED9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C7D479-1D40-4BD7-B478-E2512BAB9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AF074-26CC-4D49-A772-6F1FA0031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DD248D-32C6-42A4-BCA4-8670FADDD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7BFBF8-ADA5-4226-A374-75ECF1A99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F2800D-1684-4DD0-BD18-70F4144E7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93F57F-C609-4CAA-A23E-EE7A4FFA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550B82-6E80-445D-94C7-7E75E1B8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B3D9FE-6086-44A3-90EF-9F10CF8E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D36926-9590-4F65-9ECF-6E9B36240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33C33F-2EC0-417E-8B8A-2079D2FC5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804F01-0BE7-48C5-8DF1-5ECA70452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49AE8F-52EB-4741-A8B4-1D4FE82B4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1D719-746C-42AF-8CB6-BC59275D1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D5F367-AD4A-4E14-BCA1-4C1677714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DF8EC0-86FF-4D3E-B4B4-362BA4B4D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4D704D-2A05-47EF-A67C-7F9BACDA7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64B242-B07B-4241-B11E-35D6FFF27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B951DD-E023-40B9-A7FC-FAEFA40B6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5C9140-08E1-4B7C-AC75-56E415410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1D3614-79CA-4AE5-8311-7E22036A7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044D97-DFE6-431B-A6E7-E853AC222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6B60E2-0882-4090-BDFC-9477B4966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F92D7F-786A-474B-8C39-95CACDCDB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807A6-CA5C-4690-AC43-D77CC2FFC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8B229D-2601-4CC1-8034-7678801AD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44F96F-1FB6-4115-86B9-144D650E8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7E87E6-FD04-4E04-B1DB-A9F7BA3F3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E60314-E579-4A4A-83B3-E7810BB3A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3E31F0-65EF-4F4A-8EC8-E20B7F7D0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5E8F13-0A85-4FD2-B84F-45F2E3936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734656-E43A-4860-8E22-481874008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C5F15C-F001-4C23-AF7F-5FA9C2D42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590C4D-F6A8-41AA-891E-3DE0E227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49AD915-C0D2-41B4-B362-46C10112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334E6-A764-46BD-9417-D0D41407E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50D0DB-EB1E-4FA1-866D-7F85E27A8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89CC51-2235-4DD1-80CA-D022FD4C7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BA8C06-C57A-43CE-8710-6FBF9BB15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2E695-5AF7-4053-9713-4782AF108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17206-BEF7-4A1C-87FE-773102E78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BDB59-54F7-49E2-BCE0-827D2A196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767CF-6469-4829-8B89-B477EC3F0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0807-B086-4D00-8674-9CEF4D867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B779A-8D02-4A04-B996-C1FF3AC28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E1827-31B8-451F-A910-0309B6CCA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5D347-8D1A-480C-A859-6DF044B27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2583A-94C9-480E-9446-49F6E4848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566F8-73AD-4905-AEA4-17A0CC368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BBF28-2A17-4D2E-B6F1-C2E2EC7EE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0999C-D946-4464-B86B-9F0AB5E39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4F281-A588-4DFB-A75E-E53639C94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1977C-4395-466C-91DB-90D0DA9DC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097EB-91E1-4995-AF6A-F8ADB7E11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605A-5ABC-4A00-8C5F-B2BAAC7A8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4FC54-D956-4603-8D9E-1198BB1FF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21863-06ED-436D-B220-23BAA6C07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3B1D6-4065-4A6E-BF3A-8654BAC51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75E65-CD74-48C7-9B5E-B4AAFDBF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187B8-1FA4-4833-9DA5-85F81E8E5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487AB-233F-4FC7-8436-ABF3EA5E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DD466-441B-4D14-B5B0-2B0F9FFFC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AA285-3160-4B7B-BBCE-A2489D2C9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CC80E-65F6-41F5-BBB7-3A2241C7A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2BA943-CB6E-41F6-9312-7AEE072DF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68D6-EB76-4D90-9F70-FC23FE6F6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C07124-43B2-473C-9E45-1897D83C0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80D15A-D59B-4642-8A2D-105C863F3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4A741-A485-4D2A-999E-FD86A5DB4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3FB9C-CD1B-46EE-827A-6FAD85A33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E6F2B-89C8-4CCD-9B48-EC376309C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9EA04C-71EC-430C-B3A0-9F6A28954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86A563-0105-48AC-AFBD-0DE7D87E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ECDBE7-E158-4435-9B82-3CA89D84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B09BC-EEB7-4971-A365-AB49A749D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28EE0D-AABE-45C8-9D0D-C1E6F4FA4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F317-D430-4A04-8463-DF54D0E81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1DB79C-9959-489C-AE8C-BE3364D7F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ED2E13-B930-4B7C-823A-FF0F6E453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EBF013-39A4-4126-8D76-6F940DF6C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1FB338-05D3-4FCF-8038-7B935F9B8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2EAFB3-42A0-4640-B49D-49A703ACF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265A22-568F-422C-BA86-E41AEF60B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841471-7EFE-4681-995A-160ABF2AD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F4069B-90ED-4286-82BF-A8DFFBA63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8D3D4-BD52-4917-BB69-770F4259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E9E7C0-B96D-4592-A561-1BB3ADEE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21CA-C184-4030-BE6E-C4CB48E0C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484D12-85A1-4280-A6CC-D0EC617CC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7A6DF5-0203-49D7-BB6B-82BDA4FBA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A8C37D-1556-44B0-A1BD-8864FA5ED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2E6732-19E8-4A27-9C1B-9B79616BE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26385C-B7D4-488C-9C09-24590B578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2474EF-C4EC-4B18-BBBB-8752DA170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D361A4-1928-4BAA-B94C-3CFEB27A7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02B1B6-3A1C-4E0D-BE5B-582EA5A51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07A18C-1563-4B3B-A96F-85EAB8BAB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18633F-1453-4C33-B1D2-87FE1AD58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0D4D-F00E-4941-87D0-D00313F5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2C4EA6-188F-4397-A335-1A8CD084E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525A93-866B-4138-9B3C-15D89DF35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508023-2A64-4F11-847F-29585CEF6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4D018E-98F0-4339-83FF-4F3A0D93A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85B6C9-18D9-418A-930B-B69E5A8C5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D90F1A-4A84-4B38-8F52-01162F9A4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420058-0E0B-4DA7-A28E-BEB7D08FB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58CB27-5557-47E9-AE7A-0B59DCA39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A51D84-8868-4676-B57C-F8E4A23F9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91FF95-F5D7-46A9-BE36-5FA333485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F042-1FAB-45AE-8387-907969B37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87AFEE-8A2C-47D3-83FB-22021C4F2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8B050F-3331-46E2-AC40-29762180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C7CBF6-48D3-44D5-82B1-9A50DD40C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5AA1A1-9DF2-4DDF-84ED-A5AF956E0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316125-5A50-4966-BBEA-3B37FCAA0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E35C71-5D6E-455C-8BAA-CEE367640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BFF46D-BE43-488E-9E98-4815898D6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094D1D-14A4-4439-9E2E-89C1CB40C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F31E37-5D22-4821-B7C0-29B7E2571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A9BB10-87A5-49D2-9DBD-236B9B9F2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0C8A8-7BD8-4D73-85A9-825B5F6860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59B9D-49AD-4551-939E-257D3154495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FF3B0-9532-412B-A988-AEF90BE55A8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452C7-4D1A-4EAA-A8CB-21AD2C89924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6C920-15C1-4E54-834F-1666A73EFF5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711D0-55B2-435B-A23C-B997344242B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EEB5A-8D0A-4C11-A813-4E14EB26716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FCA3B-4EBB-4AAD-8C74-3570BC2889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B03E3-3D35-4F38-B82B-BE2A45B93F1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20C7A-60C5-4B3C-86B3-AB6FCDD5CCC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84139-84E2-4F76-BAB6-FFB627E688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C41D3-8720-45D1-A1E6-A7FA92C996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4EE6A-DCC9-424F-8C4E-059B5937462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F2FBE-78AB-450C-BC48-C9400492FE9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BE2B4-975B-410C-8D57-FE671B886DC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17097-10F7-4224-AAEE-2779C8DC31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9757F-5B42-41B9-A273-52ADE7D3EF1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7416F-6E27-4A33-A74F-713961096F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354B4-417F-4CED-B12B-87268C0CA5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6E8FB-5AD4-4100-AF32-966EAFF17D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0D66C-EDE5-41DB-8059-07DB116AD44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E169E-FA0D-4F35-BCAA-0F455B7110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EAF6B-4A66-4F26-94C5-865BF90D6CA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760A8-37BD-45C7-BDA4-B0F5E3D16C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AF487-5964-4482-89C3-A8402C3EBA6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E9F10-312D-4456-88B8-CC1BD78063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3A137-D137-4BED-B100-5BAF8B7998B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939C0-682F-47F9-BCB9-0A47F8347B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7682F-5DB7-4BD0-B678-2B802AEBD4B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222CF-EE87-4198-851C-C664A704C56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8ED05-232C-46BC-B0FD-2F1D4C52F3F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3C844-3A4C-443E-8A26-85570B841F6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7301C-324C-4885-883D-AAA0EC8A628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8A6B0-887C-4410-8087-8A8CD50B626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BD3D4-C343-4ABA-9D77-94223EEF5F6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5632E-A440-460F-9D23-5CFFC66DCB8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B8BE2-D92B-4CDE-82A0-7CA5D665A8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F39D0-1B13-4EAF-AD49-7D1BA013D80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B3302-4503-4612-93DC-83D22788FC9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CFB2C-8424-4220-82A7-7F91281B7C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Picture 1" descr=""/>
          <p:cNvPicPr/>
          <p:nvPr/>
        </p:nvPicPr>
        <p:blipFill>
          <a:blip r:embed="rId1"/>
          <a:stretch/>
        </p:blipFill>
        <p:spPr>
          <a:xfrm>
            <a:off x="428760" y="3271680"/>
            <a:ext cx="8001000" cy="5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561960" y="914400"/>
            <a:ext cx="8020080" cy="580068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3" descr=""/>
          <p:cNvPicPr/>
          <p:nvPr/>
        </p:nvPicPr>
        <p:blipFill>
          <a:blip r:embed="rId2"/>
          <a:stretch/>
        </p:blipFill>
        <p:spPr>
          <a:xfrm>
            <a:off x="2195640" y="3357720"/>
            <a:ext cx="1081080" cy="43812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3" descr=""/>
          <p:cNvPicPr/>
          <p:nvPr/>
        </p:nvPicPr>
        <p:blipFill>
          <a:blip r:embed="rId3"/>
          <a:stretch/>
        </p:blipFill>
        <p:spPr>
          <a:xfrm>
            <a:off x="5148360" y="3357720"/>
            <a:ext cx="1079280" cy="43812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3" descr=""/>
          <p:cNvPicPr/>
          <p:nvPr/>
        </p:nvPicPr>
        <p:blipFill>
          <a:blip r:embed="rId4"/>
          <a:stretch/>
        </p:blipFill>
        <p:spPr>
          <a:xfrm>
            <a:off x="6659640" y="3367080"/>
            <a:ext cx="1584360" cy="43812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3" descr=""/>
          <p:cNvPicPr/>
          <p:nvPr/>
        </p:nvPicPr>
        <p:blipFill>
          <a:blip r:embed="rId5"/>
          <a:stretch/>
        </p:blipFill>
        <p:spPr>
          <a:xfrm>
            <a:off x="2050920" y="5979960"/>
            <a:ext cx="1081080" cy="4384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3" descr=""/>
          <p:cNvPicPr/>
          <p:nvPr/>
        </p:nvPicPr>
        <p:blipFill>
          <a:blip r:embed="rId6"/>
          <a:stretch/>
        </p:blipFill>
        <p:spPr>
          <a:xfrm>
            <a:off x="5292720" y="5711760"/>
            <a:ext cx="1079640" cy="43812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3" descr=""/>
          <p:cNvPicPr/>
          <p:nvPr/>
        </p:nvPicPr>
        <p:blipFill>
          <a:blip r:embed="rId7"/>
          <a:stretch/>
        </p:blipFill>
        <p:spPr>
          <a:xfrm>
            <a:off x="5219640" y="6230880"/>
            <a:ext cx="14400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6" name="Picture 1" descr=""/>
          <p:cNvPicPr/>
          <p:nvPr/>
        </p:nvPicPr>
        <p:blipFill>
          <a:blip r:embed="rId1"/>
          <a:stretch/>
        </p:blipFill>
        <p:spPr>
          <a:xfrm>
            <a:off x="585720" y="1062000"/>
            <a:ext cx="7972560" cy="515304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3" descr=""/>
          <p:cNvPicPr/>
          <p:nvPr/>
        </p:nvPicPr>
        <p:blipFill>
          <a:blip r:embed="rId2"/>
          <a:stretch/>
        </p:blipFill>
        <p:spPr>
          <a:xfrm>
            <a:off x="3059280" y="2914560"/>
            <a:ext cx="1873080" cy="43812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3" descr=""/>
          <p:cNvPicPr/>
          <p:nvPr/>
        </p:nvPicPr>
        <p:blipFill>
          <a:blip r:embed="rId3"/>
          <a:stretch/>
        </p:blipFill>
        <p:spPr>
          <a:xfrm>
            <a:off x="4932360" y="4108320"/>
            <a:ext cx="1871640" cy="43812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3" descr=""/>
          <p:cNvPicPr/>
          <p:nvPr/>
        </p:nvPicPr>
        <p:blipFill>
          <a:blip r:embed="rId4"/>
          <a:stretch/>
        </p:blipFill>
        <p:spPr>
          <a:xfrm>
            <a:off x="4643280" y="4637160"/>
            <a:ext cx="1873440" cy="43812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3" descr=""/>
          <p:cNvPicPr/>
          <p:nvPr/>
        </p:nvPicPr>
        <p:blipFill>
          <a:blip r:embed="rId5"/>
          <a:stretch/>
        </p:blipFill>
        <p:spPr>
          <a:xfrm>
            <a:off x="4786200" y="5151600"/>
            <a:ext cx="1871640" cy="43812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3" descr=""/>
          <p:cNvPicPr/>
          <p:nvPr/>
        </p:nvPicPr>
        <p:blipFill>
          <a:blip r:embed="rId6"/>
          <a:stretch/>
        </p:blipFill>
        <p:spPr>
          <a:xfrm>
            <a:off x="4938840" y="5686560"/>
            <a:ext cx="27288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4" name="Picture 2" descr=""/>
          <p:cNvPicPr/>
          <p:nvPr/>
        </p:nvPicPr>
        <p:blipFill>
          <a:blip r:embed="rId1"/>
          <a:stretch/>
        </p:blipFill>
        <p:spPr>
          <a:xfrm>
            <a:off x="547560" y="785880"/>
            <a:ext cx="8048880" cy="592452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3" descr=""/>
          <p:cNvPicPr/>
          <p:nvPr/>
        </p:nvPicPr>
        <p:blipFill>
          <a:blip r:embed="rId2"/>
          <a:stretch/>
        </p:blipFill>
        <p:spPr>
          <a:xfrm>
            <a:off x="1692360" y="1413000"/>
            <a:ext cx="433440" cy="43812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3" descr=""/>
          <p:cNvPicPr/>
          <p:nvPr/>
        </p:nvPicPr>
        <p:blipFill>
          <a:blip r:embed="rId3"/>
          <a:stretch/>
        </p:blipFill>
        <p:spPr>
          <a:xfrm>
            <a:off x="1762200" y="5661000"/>
            <a:ext cx="4334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9" name="Picture 2" descr=""/>
          <p:cNvPicPr/>
          <p:nvPr/>
        </p:nvPicPr>
        <p:blipFill>
          <a:blip r:embed="rId1"/>
          <a:stretch/>
        </p:blipFill>
        <p:spPr>
          <a:xfrm>
            <a:off x="747720" y="871560"/>
            <a:ext cx="7648560" cy="577224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3" descr=""/>
          <p:cNvPicPr/>
          <p:nvPr/>
        </p:nvPicPr>
        <p:blipFill>
          <a:blip r:embed="rId2"/>
          <a:stretch/>
        </p:blipFill>
        <p:spPr>
          <a:xfrm>
            <a:off x="1547640" y="4005360"/>
            <a:ext cx="4334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3" name="Picture 2" descr=""/>
          <p:cNvPicPr/>
          <p:nvPr/>
        </p:nvPicPr>
        <p:blipFill>
          <a:blip r:embed="rId1"/>
          <a:stretch/>
        </p:blipFill>
        <p:spPr>
          <a:xfrm>
            <a:off x="533520" y="942840"/>
            <a:ext cx="8076960" cy="562932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3" descr=""/>
          <p:cNvPicPr/>
          <p:nvPr/>
        </p:nvPicPr>
        <p:blipFill>
          <a:blip r:embed="rId2"/>
          <a:stretch/>
        </p:blipFill>
        <p:spPr>
          <a:xfrm>
            <a:off x="1754280" y="2763720"/>
            <a:ext cx="6912000" cy="43812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3" descr=""/>
          <p:cNvPicPr/>
          <p:nvPr/>
        </p:nvPicPr>
        <p:blipFill>
          <a:blip r:embed="rId3"/>
          <a:stretch/>
        </p:blipFill>
        <p:spPr>
          <a:xfrm>
            <a:off x="1763640" y="4437000"/>
            <a:ext cx="6912000" cy="43812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3" descr=""/>
          <p:cNvPicPr/>
          <p:nvPr/>
        </p:nvPicPr>
        <p:blipFill>
          <a:blip r:embed="rId4"/>
          <a:stretch/>
        </p:blipFill>
        <p:spPr>
          <a:xfrm>
            <a:off x="1692360" y="4997520"/>
            <a:ext cx="69120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9" name="Picture 1" descr=""/>
          <p:cNvPicPr/>
          <p:nvPr/>
        </p:nvPicPr>
        <p:blipFill>
          <a:blip r:embed="rId1"/>
          <a:stretch/>
        </p:blipFill>
        <p:spPr>
          <a:xfrm>
            <a:off x="776160" y="1133640"/>
            <a:ext cx="7591680" cy="501012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3" descr=""/>
          <p:cNvPicPr/>
          <p:nvPr/>
        </p:nvPicPr>
        <p:blipFill>
          <a:blip r:embed="rId2"/>
          <a:stretch/>
        </p:blipFill>
        <p:spPr>
          <a:xfrm>
            <a:off x="1835280" y="1165320"/>
            <a:ext cx="1152360" cy="43812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3" descr=""/>
          <p:cNvPicPr/>
          <p:nvPr/>
        </p:nvPicPr>
        <p:blipFill>
          <a:blip r:embed="rId3"/>
          <a:stretch/>
        </p:blipFill>
        <p:spPr>
          <a:xfrm>
            <a:off x="3419640" y="1165320"/>
            <a:ext cx="1152360" cy="43812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3" descr=""/>
          <p:cNvPicPr/>
          <p:nvPr/>
        </p:nvPicPr>
        <p:blipFill>
          <a:blip r:embed="rId4"/>
          <a:stretch/>
        </p:blipFill>
        <p:spPr>
          <a:xfrm>
            <a:off x="6588000" y="1197000"/>
            <a:ext cx="1152720" cy="43812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3" descr=""/>
          <p:cNvPicPr/>
          <p:nvPr/>
        </p:nvPicPr>
        <p:blipFill>
          <a:blip r:embed="rId5"/>
          <a:stretch/>
        </p:blipFill>
        <p:spPr>
          <a:xfrm>
            <a:off x="1547640" y="3406680"/>
            <a:ext cx="1152720" cy="43812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3" descr=""/>
          <p:cNvPicPr/>
          <p:nvPr/>
        </p:nvPicPr>
        <p:blipFill>
          <a:blip r:embed="rId6"/>
          <a:stretch/>
        </p:blipFill>
        <p:spPr>
          <a:xfrm>
            <a:off x="3276720" y="3395520"/>
            <a:ext cx="790560" cy="43812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3" descr=""/>
          <p:cNvPicPr/>
          <p:nvPr/>
        </p:nvPicPr>
        <p:blipFill>
          <a:blip r:embed="rId7"/>
          <a:stretch/>
        </p:blipFill>
        <p:spPr>
          <a:xfrm>
            <a:off x="4572000" y="3402000"/>
            <a:ext cx="1152360" cy="43812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3" descr=""/>
          <p:cNvPicPr/>
          <p:nvPr/>
        </p:nvPicPr>
        <p:blipFill>
          <a:blip r:embed="rId8"/>
          <a:stretch/>
        </p:blipFill>
        <p:spPr>
          <a:xfrm>
            <a:off x="1979640" y="5068800"/>
            <a:ext cx="1152360" cy="43812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3" descr=""/>
          <p:cNvPicPr/>
          <p:nvPr/>
        </p:nvPicPr>
        <p:blipFill>
          <a:blip r:embed="rId9"/>
          <a:stretch/>
        </p:blipFill>
        <p:spPr>
          <a:xfrm>
            <a:off x="6804000" y="5064120"/>
            <a:ext cx="1152720" cy="43812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3" descr=""/>
          <p:cNvPicPr/>
          <p:nvPr/>
        </p:nvPicPr>
        <p:blipFill>
          <a:blip r:embed="rId10"/>
          <a:stretch/>
        </p:blipFill>
        <p:spPr>
          <a:xfrm>
            <a:off x="1692360" y="5630760"/>
            <a:ext cx="22320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1" name="Picture 1" descr=""/>
          <p:cNvPicPr/>
          <p:nvPr/>
        </p:nvPicPr>
        <p:blipFill>
          <a:blip r:embed="rId1"/>
          <a:stretch/>
        </p:blipFill>
        <p:spPr>
          <a:xfrm>
            <a:off x="447840" y="714240"/>
            <a:ext cx="824832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4" name="Picture 1" descr=""/>
          <p:cNvPicPr/>
          <p:nvPr/>
        </p:nvPicPr>
        <p:blipFill>
          <a:blip r:embed="rId1"/>
          <a:stretch/>
        </p:blipFill>
        <p:spPr>
          <a:xfrm>
            <a:off x="828720" y="1366920"/>
            <a:ext cx="7486560" cy="484812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3" descr=""/>
          <p:cNvPicPr/>
          <p:nvPr/>
        </p:nvPicPr>
        <p:blipFill>
          <a:blip r:embed="rId2"/>
          <a:stretch/>
        </p:blipFill>
        <p:spPr>
          <a:xfrm>
            <a:off x="3224160" y="2409840"/>
            <a:ext cx="2592360" cy="43812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3" descr=""/>
          <p:cNvPicPr/>
          <p:nvPr/>
        </p:nvPicPr>
        <p:blipFill>
          <a:blip r:embed="rId3"/>
          <a:stretch/>
        </p:blipFill>
        <p:spPr>
          <a:xfrm>
            <a:off x="3203640" y="2970360"/>
            <a:ext cx="2592360" cy="43812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3" descr=""/>
          <p:cNvPicPr/>
          <p:nvPr/>
        </p:nvPicPr>
        <p:blipFill>
          <a:blip r:embed="rId4"/>
          <a:stretch/>
        </p:blipFill>
        <p:spPr>
          <a:xfrm>
            <a:off x="3203640" y="3521160"/>
            <a:ext cx="2592360" cy="43812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3" descr=""/>
          <p:cNvPicPr/>
          <p:nvPr/>
        </p:nvPicPr>
        <p:blipFill>
          <a:blip r:embed="rId5"/>
          <a:stretch/>
        </p:blipFill>
        <p:spPr>
          <a:xfrm>
            <a:off x="3276720" y="4687920"/>
            <a:ext cx="2590560" cy="43812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3" descr=""/>
          <p:cNvPicPr/>
          <p:nvPr/>
        </p:nvPicPr>
        <p:blipFill>
          <a:blip r:embed="rId6"/>
          <a:stretch/>
        </p:blipFill>
        <p:spPr>
          <a:xfrm>
            <a:off x="3336840" y="5234040"/>
            <a:ext cx="2592360" cy="43812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3" descr=""/>
          <p:cNvPicPr/>
          <p:nvPr/>
        </p:nvPicPr>
        <p:blipFill>
          <a:blip r:embed="rId7"/>
          <a:stretch/>
        </p:blipFill>
        <p:spPr>
          <a:xfrm>
            <a:off x="6602400" y="2698920"/>
            <a:ext cx="1477800" cy="43812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3" descr=""/>
          <p:cNvPicPr/>
          <p:nvPr/>
        </p:nvPicPr>
        <p:blipFill>
          <a:blip r:embed="rId8"/>
          <a:stretch/>
        </p:blipFill>
        <p:spPr>
          <a:xfrm>
            <a:off x="6084720" y="3247920"/>
            <a:ext cx="1476720" cy="43812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3" descr=""/>
          <p:cNvPicPr/>
          <p:nvPr/>
        </p:nvPicPr>
        <p:blipFill>
          <a:blip r:embed="rId9"/>
          <a:stretch/>
        </p:blipFill>
        <p:spPr>
          <a:xfrm>
            <a:off x="6572160" y="4684680"/>
            <a:ext cx="1476360" cy="43812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3" descr=""/>
          <p:cNvPicPr/>
          <p:nvPr/>
        </p:nvPicPr>
        <p:blipFill>
          <a:blip r:embed="rId10"/>
          <a:stretch/>
        </p:blipFill>
        <p:spPr>
          <a:xfrm>
            <a:off x="6048360" y="5243400"/>
            <a:ext cx="147636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26:54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